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092-821C-4909-9698-AA4F08AE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074-872A-4F07-A996-DA4194B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800-B424-4FF0-A56A-922DFEDE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689-5F6E-4CA0-B35D-2B570B8B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275-C540-442D-90EA-EB7DC074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10C-CD7D-40A6-8E49-2B17B6C1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61C-7A82-4558-8ABF-BFE3E66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2AC-553B-434D-9C8B-1C3B507A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035-ACEF-4617-829A-1B7FE63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F53-239D-44F1-A557-9512904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63-DF6D-4D45-A13F-988F547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59F-848C-4B27-847E-8B4DE98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51F2-5480-4597-861B-5F85C5E32E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2.gi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336680" cy="10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765000" cy="906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567240"/>
            <a:ext cx="1547640" cy="121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157720"/>
            <a:ext cx="113508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05806E-006 L 0.77813 -3.05806E-006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1.98936E-006 L 0.8125 -1.98936E-006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81448E-006 L 0.76667 -3.81448E-006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-1.45269E-006 L 0.78455 -1.45269E-006 E">
                                      <p:cBhvr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1:28Z</dcterms:created>
  <dc:creator>Tribouillier</dc:creator>
  <dc:description/>
  <dc:language>en-US</dc:language>
  <cp:lastModifiedBy>Tribouillier</cp:lastModifiedBy>
  <dcterms:modified xsi:type="dcterms:W3CDTF">2008-02-09T09:11:48Z</dcterms:modified>
  <cp:revision>1</cp:revision>
  <dc:subject/>
  <dc:title>Diapositive 1</dc:title>
</cp:coreProperties>
</file>