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D28-2F3D-473E-8F4D-D583E9FC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555-8DB7-4FEF-90C6-0C1BE5CF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225-A6E8-4C40-9897-74086202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CB9-AEBC-43D4-BB25-CC694084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902-6259-45CE-9B05-43BE40DD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159-CC50-4D7C-B725-1ED72F6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422-F1A4-4914-8357-811037B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BC9-DCDA-4BD0-A65D-69A2E6DD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0E8-4FC9-4E76-9D93-AFBC7B97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C7D-39FD-4361-BFBA-FB16D29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11A-D30B-465F-9361-5FD1EFD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218-E389-4A37-A5BF-13821E7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373A-1B7C-43D8-BE63-DD804E9F45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2.gi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336680" cy="104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765000" cy="906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567240"/>
            <a:ext cx="1547640" cy="121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157720"/>
            <a:ext cx="1135080" cy="13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05806E-006 L 0.77813 -3.05806E-006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1.98936E-006 L 0.8125 -1.98936E-006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81448E-006 L 0.76667 -3.81448E-006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-1.45269E-006 L 0.78455 -1.45269E-006 E">
                                      <p:cBhvr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11:28Z</dcterms:created>
  <dc:creator>Tribouillier</dc:creator>
  <dc:description/>
  <dc:language>en-US</dc:language>
  <cp:lastModifiedBy>Tribouillier</cp:lastModifiedBy>
  <dcterms:modified xsi:type="dcterms:W3CDTF">2008-02-09T09:11:48Z</dcterms:modified>
  <cp:revision>1</cp:revision>
  <dc:subject/>
  <dc:title>Diapositive 1</dc:title>
</cp:coreProperties>
</file>