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C286-F5A9-48C2-96C7-7FB96D23A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C1DB-DFE0-4F35-861C-7336ECD6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7F1B-9E99-48C2-A68B-C6108AFB2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D323-6429-4615-8E9E-FDF398161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600F-48EA-4E63-B0C2-29DFD466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F800-64BD-48C4-BBCD-819B044B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B318-9A49-4673-A819-3F3CD0E5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1F53-ED92-4D6C-93E7-9A7E4CE6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2FEB-C9AC-48CC-A473-93AEC556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26BB-9ECC-4E78-B470-00A1110B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00DA-4CAE-4665-8047-3556945A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66E1-D3F1-40A3-9688-8841C87D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13DF-634A-4D59-B041-FE3B95D06B2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55771" r="9533" b="0"/>
          <a:stretch/>
        </p:blipFill>
        <p:spPr>
          <a:xfrm>
            <a:off x="0" y="219240"/>
            <a:ext cx="9144000" cy="2968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0" t="55771" r="9533" b="0"/>
          <a:stretch/>
        </p:blipFill>
        <p:spPr>
          <a:xfrm>
            <a:off x="0" y="3645000"/>
            <a:ext cx="9144000" cy="296856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-1044720" y="2625480"/>
            <a:ext cx="11088360" cy="561960"/>
            <a:chOff x="-1044720" y="2625480"/>
            <a:chExt cx="11088360" cy="561960"/>
          </a:xfrm>
        </p:grpSpPr>
        <p:sp>
          <p:nvSpPr>
            <p:cNvPr id="44" name=""/>
            <p:cNvSpPr/>
            <p:nvPr/>
          </p:nvSpPr>
          <p:spPr>
            <a:xfrm rot="16200000">
              <a:off x="4218480" y="-2637360"/>
              <a:ext cx="561960" cy="11088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1044720" y="2867040"/>
              <a:ext cx="1108836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-1044720" y="2565360"/>
            <a:ext cx="952560" cy="46692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3205080" y="4221000"/>
            <a:ext cx="2374920" cy="1762200"/>
            <a:chOff x="3205080" y="4221000"/>
            <a:chExt cx="2374920" cy="1762200"/>
          </a:xfrm>
        </p:grpSpPr>
        <p:pic>
          <p:nvPicPr>
            <p:cNvPr id="48" name="" descr=""/>
            <p:cNvPicPr/>
            <p:nvPr/>
          </p:nvPicPr>
          <p:blipFill>
            <a:blip r:embed="rId4"/>
            <a:stretch/>
          </p:blipFill>
          <p:spPr>
            <a:xfrm>
              <a:off x="3205080" y="4221000"/>
              <a:ext cx="237492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160880" y="4265640"/>
              <a:ext cx="13478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OND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479400">
              <a:off x="3478320" y="4736520"/>
              <a:ext cx="110628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AR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187800" y="803160"/>
            <a:ext cx="2374920" cy="1762200"/>
            <a:chOff x="3187800" y="803160"/>
            <a:chExt cx="2374920" cy="1762200"/>
          </a:xfrm>
        </p:grpSpPr>
        <p:pic>
          <p:nvPicPr>
            <p:cNvPr id="52" name="" descr=""/>
            <p:cNvPicPr/>
            <p:nvPr/>
          </p:nvPicPr>
          <p:blipFill>
            <a:blip r:embed="rId5"/>
            <a:stretch/>
          </p:blipFill>
          <p:spPr>
            <a:xfrm>
              <a:off x="3187800" y="803160"/>
              <a:ext cx="237492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143600" y="847800"/>
              <a:ext cx="13478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OND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479400">
              <a:off x="3461040" y="1318680"/>
              <a:ext cx="110628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AR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-1044720" y="6035400"/>
            <a:ext cx="11088360" cy="561960"/>
            <a:chOff x="-1044720" y="6035400"/>
            <a:chExt cx="11088360" cy="561960"/>
          </a:xfrm>
        </p:grpSpPr>
        <p:sp>
          <p:nvSpPr>
            <p:cNvPr id="56" name=""/>
            <p:cNvSpPr/>
            <p:nvPr/>
          </p:nvSpPr>
          <p:spPr>
            <a:xfrm rot="16200000">
              <a:off x="4218480" y="772200"/>
              <a:ext cx="561960" cy="11088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-1044720" y="6276960"/>
              <a:ext cx="1108836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-1044720" y="5975280"/>
            <a:ext cx="952560" cy="46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63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0.03629 -4.81481E-006 L 1.16857 -4.81481E-006 E">
                                      <p:cBhvr>
                                        <p:cTn id="9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629 -4.81481E-006 L 1.16857 -4.81481E-006 E">
                                      <p:cBhvr>
                                        <p:cTn id="16" dur="3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09:13:12Z</dcterms:created>
  <dc:creator>Tribouillier</dc:creator>
  <dc:description/>
  <dc:language>en-US</dc:language>
  <cp:lastModifiedBy>Tribouillier</cp:lastModifiedBy>
  <dcterms:modified xsi:type="dcterms:W3CDTF">2008-02-09T09:13:31Z</dcterms:modified>
  <cp:revision>1</cp:revision>
  <dc:subject/>
  <dc:title>Diapositive 1</dc:title>
</cp:coreProperties>
</file>