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720-F342-4162-A03D-8F164865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A12-ED0B-4877-A482-ACFF4B96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135-259C-410F-9DF1-FDA5DC9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86A-1BA0-4FC1-8FD7-12EEAA08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2B8-DA91-4645-9BD3-F26E1453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AA2-5434-48A8-9333-F20F58F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3A8-A2F2-4638-A66B-FDC5DA2D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031-8191-4372-9E0E-D4FF610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1FB-49F1-4579-8513-905C5EC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412-67CA-480E-A108-FF59D8C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C6F-40B7-4244-81EA-0793A4F3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6B6-66D6-480C-8D3B-E0C07215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E1C-8CA5-4F0A-BAD2-DBF933E03D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5771" r="9533" b="0"/>
          <a:stretch/>
        </p:blipFill>
        <p:spPr>
          <a:xfrm>
            <a:off x="0" y="219240"/>
            <a:ext cx="9144000" cy="2968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55771" r="9533" b="0"/>
          <a:stretch/>
        </p:blipFill>
        <p:spPr>
          <a:xfrm>
            <a:off x="0" y="3645000"/>
            <a:ext cx="9144000" cy="29685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1044720" y="2625480"/>
            <a:ext cx="11088360" cy="561960"/>
            <a:chOff x="-1044720" y="2625480"/>
            <a:chExt cx="11088360" cy="561960"/>
          </a:xfrm>
        </p:grpSpPr>
        <p:sp>
          <p:nvSpPr>
            <p:cNvPr id="44" name=""/>
            <p:cNvSpPr/>
            <p:nvPr/>
          </p:nvSpPr>
          <p:spPr>
            <a:xfrm rot="16200000">
              <a:off x="4218480" y="-2637360"/>
              <a:ext cx="561960" cy="1108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1044720" y="2867040"/>
              <a:ext cx="1108836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-1044720" y="2565360"/>
            <a:ext cx="952560" cy="4669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05080" y="4221000"/>
            <a:ext cx="2374920" cy="1762200"/>
            <a:chOff x="3205080" y="4221000"/>
            <a:chExt cx="2374920" cy="17622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205080" y="4221000"/>
              <a:ext cx="23749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160880" y="4265640"/>
              <a:ext cx="1347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ND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479400">
              <a:off x="3478320" y="4736520"/>
              <a:ext cx="11062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187800" y="803160"/>
            <a:ext cx="2374920" cy="1762200"/>
            <a:chOff x="3187800" y="803160"/>
            <a:chExt cx="2374920" cy="1762200"/>
          </a:xfrm>
        </p:grpSpPr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3187800" y="803160"/>
              <a:ext cx="23749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143600" y="847800"/>
              <a:ext cx="1347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ND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479400">
              <a:off x="3461040" y="1318680"/>
              <a:ext cx="11062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-1044720" y="6035400"/>
            <a:ext cx="11088360" cy="561960"/>
            <a:chOff x="-1044720" y="6035400"/>
            <a:chExt cx="11088360" cy="561960"/>
          </a:xfrm>
        </p:grpSpPr>
        <p:sp>
          <p:nvSpPr>
            <p:cNvPr id="56" name=""/>
            <p:cNvSpPr/>
            <p:nvPr/>
          </p:nvSpPr>
          <p:spPr>
            <a:xfrm rot="16200000">
              <a:off x="4218480" y="772200"/>
              <a:ext cx="561960" cy="1108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-1044720" y="6276960"/>
              <a:ext cx="1108836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-1044720" y="5975280"/>
            <a:ext cx="952560" cy="4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3629 -4.81481E-006 L 1.16857 -4.81481E-006 E">
                                      <p:cBhvr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29 -4.81481E-006 L 1.16857 -4.81481E-006 E">
                                      <p:cBhvr>
                                        <p:cTn id="16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13:12Z</dcterms:created>
  <dc:creator>Tribouillier</dc:creator>
  <dc:description/>
  <dc:language>en-US</dc:language>
  <cp:lastModifiedBy>Tribouillier</cp:lastModifiedBy>
  <dcterms:modified xsi:type="dcterms:W3CDTF">2008-02-09T09:13:31Z</dcterms:modified>
  <cp:revision>1</cp:revision>
  <dc:subject/>
  <dc:title>Diapositive 1</dc:title>
</cp:coreProperties>
</file>